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CC7C-632E-4C14-A3CC-E6EB464E2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C34C-6A97-4909-A254-4B5FD415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51DF-5A70-46E1-908B-3E1D2076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FCE4-9037-4857-A92E-16E10A49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814A-1056-4C34-B860-EB3DE4F4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03AF-E8B0-4D2D-9CE0-AA627DBC3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9328-9D86-43BF-9524-A381C37F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F0AE-A387-44DA-B8F2-F8D733A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EA52-D6ED-4797-84F7-DE765C2F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6CB-D393-4B40-8E49-EA041DB6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B26-CB69-470E-AC60-38C84DD5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57E-87BD-4629-8446-BC48A8BD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FE74A-A878-4EC9-9B9C-F4B3EAB1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6F0C-792A-4B29-A13E-1B8DF5DF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ED42-D841-4B6D-9BAF-9822EBE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A244-A191-4590-A39C-04EF1FBEF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5225-9CC8-4352-92EF-A2778E693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8592-3D39-499A-9498-54010174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14B-A075-4DBB-8E2A-E2D60E58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3D0-4354-42B9-A270-3044DF73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D57F-EC2C-4737-9FE6-678721CC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1F3-3DC8-4E7A-B801-F724BDAD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B041-2CC6-4E3B-A732-2B6407F6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F35-6089-419D-9792-EDDFC8A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a867b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741-3ABD-441F-BDD4-5D71998AF30E}" type="slidenum">
              <a:rPr b="0" lang="ar-SA" sz="1200" spc="-1" strike="noStrike">
                <a:solidFill>
                  <a:srgbClr val="5a867b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a86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5a86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5a86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5a867b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AD60-6F50-4DAA-B009-CD7D1ACD82DE}" type="slidenum">
              <a:rPr b="0" lang="ar-SA" sz="1200" spc="-1" strike="noStrike">
                <a:solidFill>
                  <a:srgbClr val="5a867b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 rot="213000">
            <a:off x="899640" y="2420640"/>
            <a:ext cx="72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1b4c8"/>
                </a:solidFill>
                <a:latin typeface="Bradley Hand ITC"/>
              </a:rPr>
              <a:t>Communication style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258920" y="1455480"/>
            <a:ext cx="6730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Good communication skills require a high level of self-aware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Understanding your personal style of communicating will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a long way toward helping you to create good and l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5a867b"/>
                </a:solidFill>
                <a:latin typeface="Monotype Corsiva"/>
              </a:rPr>
              <a:t>impressions on others.</a:t>
            </a:r>
            <a:r>
              <a:rPr b="1" lang="en-US" sz="3200" spc="-1" strike="noStrike">
                <a:solidFill>
                  <a:srgbClr val="5a867b"/>
                </a:solidFill>
                <a:latin typeface="Bradley Hand IT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1315800"/>
            <a:ext cx="79912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c8d1"/>
                </a:solidFill>
                <a:latin typeface="Monotype Corsiva"/>
              </a:rPr>
              <a:t>There are three basic communication styles :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Aggressive.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Passive.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3200" spc="-1" strike="noStrike">
                <a:solidFill>
                  <a:srgbClr val="96c8d1"/>
                </a:solidFill>
                <a:latin typeface="Monotype Corsiva"/>
              </a:rPr>
              <a:t>*</a:t>
            </a:r>
            <a:r>
              <a:rPr b="1" lang="en-US" sz="3200" spc="-1" strike="noStrike">
                <a:solidFill>
                  <a:srgbClr val="96c8d1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Assertiv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640800" y="1628280"/>
            <a:ext cx="91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600" spc="-1" strike="noStrike" u="sng">
                <a:solidFill>
                  <a:srgbClr val="e9cc7a"/>
                </a:solidFill>
                <a:uFillTx/>
                <a:latin typeface="Monotype Corsiva"/>
              </a:rPr>
              <a:t>Aggressive</a:t>
            </a: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 Style:</a:t>
            </a:r>
            <a:r>
              <a:rPr b="0" lang="en-US" sz="1800" spc="-1" strike="noStrike">
                <a:solidFill>
                  <a:srgbClr val="96c8d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88000" y="2993040"/>
            <a:ext cx="564696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"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Every one should be like m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I am never wrong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I've got rights, but you don't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25480" y="2564640"/>
            <a:ext cx="463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32040" y="1483560"/>
            <a:ext cx="52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4760" y="2134440"/>
            <a:ext cx="7075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Close minded ..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Poor listener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Has difficulty seeing the other person'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point of view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Interrupts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342360" y="1539720"/>
            <a:ext cx="832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600" spc="-1" strike="noStrike" u="sng">
                <a:solidFill>
                  <a:srgbClr val="e9cc7a"/>
                </a:solidFill>
                <a:uFillTx/>
                <a:latin typeface="Monotype Corsiva"/>
              </a:rPr>
              <a:t>Passive </a:t>
            </a:r>
            <a:r>
              <a:rPr b="1" lang="en-US" sz="3600" spc="-1" strike="noStrike" u="sng">
                <a:solidFill>
                  <a:srgbClr val="96c8d1"/>
                </a:solidFill>
                <a:uFillTx/>
                <a:latin typeface="Monotype Corsiva"/>
              </a:rPr>
              <a:t>Sty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6480" y="2276640"/>
            <a:ext cx="45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15200" y="2997360"/>
            <a:ext cx="662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Don't express your true feelings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Don't disagree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"Others have more rights than I do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24120" y="1514520"/>
            <a:ext cx="51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69280" y="2053440"/>
            <a:ext cx="3821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Indirect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Always agrees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Doesn't speak up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Hesitant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419760" y="1514520"/>
            <a:ext cx="79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6c8d1"/>
                </a:solidFill>
                <a:uFillTx/>
                <a:latin typeface="Monotype Corsiva"/>
              </a:rPr>
              <a:t>Some elements of the </a:t>
            </a:r>
            <a:r>
              <a:rPr b="1" lang="en-US" sz="3200" spc="-1" strike="noStrike" u="sng">
                <a:solidFill>
                  <a:srgbClr val="e9cc7a"/>
                </a:solidFill>
                <a:uFillTx/>
                <a:latin typeface="Monotype Corsiva"/>
              </a:rPr>
              <a:t>Assertive</a:t>
            </a:r>
            <a:r>
              <a:rPr b="1" lang="en-US" sz="3200" spc="-1" strike="noStrike" u="sng">
                <a:solidFill>
                  <a:srgbClr val="96c8d1"/>
                </a:solidFill>
                <a:uFillTx/>
                <a:latin typeface="Monotype Corsiva"/>
              </a:rPr>
              <a:t> Style:</a:t>
            </a: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840" y="220500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cc7a"/>
                </a:solidFill>
                <a:latin typeface="Monotype Corsiva"/>
              </a:rPr>
              <a:t>**</a:t>
            </a:r>
            <a:r>
              <a:rPr b="1" lang="en-US" sz="2800" spc="-1" strike="noStrike">
                <a:solidFill>
                  <a:srgbClr val="e9cc7a"/>
                </a:solidFill>
                <a:latin typeface="Monotype Corsiva"/>
              </a:rPr>
              <a:t>Mottos and Belief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9880" y="2781360"/>
            <a:ext cx="798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Believes self and others are valuable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Knowing that assertiveness doesn't me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  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you always win, but that you handled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 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situation as effectively as possible</a:t>
            </a:r>
            <a:r>
              <a:rPr b="0" lang="en-US" sz="2800" spc="-1" strike="noStrike">
                <a:solidFill>
                  <a:srgbClr val="5a867b"/>
                </a:solidFill>
                <a:latin typeface="Monotype Corsiva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8800" y="1700280"/>
            <a:ext cx="518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cc7a"/>
                </a:solidFill>
                <a:latin typeface="Monotype Corsiva"/>
              </a:rPr>
              <a:t>**Communication Styl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7440" y="2492640"/>
            <a:ext cx="633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Effective, active listene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Expresses self directly, honestly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a867b"/>
              </a:buClr>
              <a:buFont typeface="Monotype Corsiv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 </a:t>
            </a:r>
            <a:r>
              <a:rPr b="1" lang="en-US" sz="2800" spc="-1" strike="noStrike">
                <a:solidFill>
                  <a:srgbClr val="5a867b"/>
                </a:solidFill>
                <a:latin typeface="Monotype Corsiva"/>
              </a:rPr>
              <a:t>Checks on others feelings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11:13:55Z</dcterms:created>
  <dc:creator>style tech</dc:creator>
  <dc:description/>
  <cp:keywords/>
  <dc:language>en-US</dc:language>
  <cp:lastModifiedBy>style tech</cp:lastModifiedBy>
  <dcterms:modified xsi:type="dcterms:W3CDTF">2010-08-28T20:44:07Z</dcterms:modified>
  <cp:revision>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25</vt:lpwstr>
  </property>
</Properties>
</file>